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316F-5056-4578-B824-CEF10BD82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013F-C80C-4D1D-AA60-E35D009D8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88B-29D4-4B0C-B291-115E339A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EAE3-EFBB-4CF7-920C-F12A4992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19A-6AA8-4079-9C67-759EA367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CF7-374F-4CAB-94DD-82A0D1A1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F53-55B5-40AA-8929-5F306590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3A8-2071-49CD-A840-B4F313B5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423-A288-4E1E-A15F-ACB6454A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098-CFA6-4303-BE14-4FCEF39A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3E3-CACB-4CA4-8EDB-D40C61D7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276-44CF-43E9-B591-3889DECB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A05-F876-464B-9563-EE9A64E0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38A-D306-42AA-946F-C307E6BA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8EEA-5239-47B1-9F57-77201C8E8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Ocean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1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6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70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7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79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4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17:53Z</dcterms:modified>
  <cp:revision>118</cp:revision>
  <dc:subject/>
  <dc:title>Museum of World Stuff</dc:title>
</cp:coreProperties>
</file>